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3B50985-44E5-42C4-8ED6-784A243B2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CE8-974C-459F-B488-CFF58A88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420-1EA4-4DE8-9B6E-77F14290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1E1-D243-4298-870F-C864683D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6FC-22BD-49AA-A182-CB7A4EDC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94C4-5865-44AD-A148-28030719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8A2C-8849-43F4-A2E1-85BB1997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1C59-FD0D-4AA8-83DA-7AE966FA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8889-64A8-4C5C-A98C-6F7CF20D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87EC-89D5-46B0-9459-CB38B4A9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ABB8-EE01-4D45-A00C-110266CC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E01C-E35B-4E65-8A5F-FD1EA6E0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42B-0887-4FC8-9442-DF23DBF3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9968-0F2C-4564-B74B-893D6A9D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9F15-4071-43F0-A72D-7E89B934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9B92-114A-4F5B-82BC-43462ADB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3F4A-1B1B-4760-A102-AEBD3584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AF6E-C056-4475-8F52-E1FA9FEB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CF2-EF11-450E-A31B-550E6B49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2C19-DAB3-4C13-A200-613A8EC3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8E8-F373-464E-945E-5039EA5D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EB9-0820-4C55-9E46-89ED3EED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FA6-C346-4C59-ABCC-E2EAAB54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585-0D06-4255-88CB-B7000CA1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7BAE-0B44-49BA-BB3F-029ECDD4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940F-8755-438B-BA8A-28AE00CDA8EA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1BB8-3300-4FCC-9851-11D99D4A237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26D8-0A2D-4B40-AD20-86D6685CF868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00296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Quadratic and Trigonometric Relations</a:t>
            </a:r>
            <a:br>
              <a:rPr sz="4400"/>
            </a:b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Session 1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2444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om Chap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Judy Menda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1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1905120"/>
            <a:ext cx="8497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Algebraic reasoning can help you to describe and analyze generalized quadratic relations and change using words and symbols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2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representations of quadratic relations highlight different characteristics and serve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3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1905120"/>
            <a:ext cx="8497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Comparing quadratic relations with other relations (e.g. linear) provides insight into the defining characteristics of a quadratic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4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information about a quadratic relation can sometimes, but not always, reveal other information about that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1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Trigonometric relations can help you to describe and analyze periodic relationships and change using words and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2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trigonometric function can be represented in multiple ways (numerically, graphically, geometrically and algebraically) and each representation highlights different characteristics or behaviours, and can serve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3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The periodic nature of trigonometric relations necessitates the creation of a new class of rela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4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information about a periodic relationship can sometimes, but not always, reveal other information about that relatio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20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Match Me Up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match each question to the big idea that it is most likely to elic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20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Match Me Up!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Share:  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questions were easiest / most difficult to map?  Why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common elements are evident in the questions that help students develop understanding of the big idea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us your name and Boar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ne thing that you hope to get out of this breakout session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ne success that you have had teaching rel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d469b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a Big Idea and write your own question (for Quadratic or Trig relations) that gets at that Big Id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member to label the Big Idea on your stic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name on the b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it on your way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the Big Ideas of Quadratic and Trigonometric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connections between the overall expectations and the big ideas of Quadratic and Trigonometric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ing sense of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3176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ur big ideas for quadratic relations and four big ideas for trigonometric relations are posted, one on each side of each corner of the roo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73664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your table, you will find two envelo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envelope contains overall expectations from various grade 10, 11 and 12 courses related to quadratic relations OR trigonometric relations.  Select a partner. Choose an envelope and then select one expectation (so each pair will have two expectations) from that enve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73664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your partner, walk around the room and discuss the Big Ideas through the lens of your expec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your expectation, go to the corner that it best connects to. (You and your partner may need to separat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9051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your corner, discuss your rationale for matching the overall expectation to that big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may change your corner if your discussion made you rethink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you are ready, post your overall expectation under the big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051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ner Sh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How are the expectations for quadratic and trigonometric relations the same for that Big Idea?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llery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Turn and T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905120"/>
            <a:ext cx="8399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ner Share:  Find three new people to work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080" indent="-271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How easy / difficult was it to assign an overall expectation to a big idea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Are the overall expectations sufficient to get at the big ideas?  Why or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What role do students’ prior experiences play in the development of their understanding of the big ide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What challenges might you as a teacher face when providing students with learning opportunities that focus on developing understanding of the big idea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eel District School Board</cp:lastModifiedBy>
  <dcterms:modified xsi:type="dcterms:W3CDTF">2009-08-25T02:53:13Z</dcterms:modified>
  <cp:revision>123</cp:revision>
  <dc:subject/>
  <dc:title>Math GAINS 2008-09</dc:title>
</cp:coreProperties>
</file>